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CCC-0C40-4E7E-9D4E-45FE711F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157-F2F1-4D58-8988-C5395AD2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A40-E99E-47F1-823A-0DBDEA00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693-D8C9-4AA4-9CC4-66B074A6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509-6D61-4316-BBF0-6A3F0EF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F0D-2EB8-4281-842C-D07B57C7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84C-C047-49C2-933A-B551125E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86E-1CB9-4B66-A51D-6D2EF751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99E-1BE7-4F06-BD10-602D6208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3E2-85B9-4C4E-BB11-1164520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012-E580-4ACF-9EC0-A42458FE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3A0-6944-4183-BB53-64D922C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E71-721A-442A-8DA9-7C4B7AF0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Effect of Mass on Ballistics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Erik V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icture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3334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52680" y="46483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248520" y="32004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657600" y="1219320"/>
            <a:ext cx="2260440" cy="169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6705720" y="48006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733920" y="29718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Bibliography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ow to Make Your Own Ballistic Gel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Science Project Answers Your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yscienceproject.org/gelatin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ow to Make Your Own Ballistic Gel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Science Project Answers Your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yscienceproject.org/gelatin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ajor Pandemic - MajorPandemic.com: Equipment Reviews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 Pande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ajorpandemic.com/p/equipment-reviews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ajor Pandemic - MajorPandemic.com: Equipment Reviews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 Pande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ajorpandemic.com/p/equipment-reviews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VidoEmo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motional Video 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vidoevo.co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VidoEmo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motional Video 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vidoevo.com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ed out of the same gun, using the same amount of force, is a projectile of a larger mass more likely to be more lethal or cle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Hypothesi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predict an increase in mass will also greatly increase kill percentag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Material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aisy Powerline 880s Dual Ammo Air Rif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listics gelatin (homemade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munition as listed in resul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Materials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s #9 Solvent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Compress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pe meas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r and shooting st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o Nighthaw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cedure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asure Shooting Distance (25 ft.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t up shooting rig at dist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ean air gu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cedure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y out projectiles for test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st each projectile (on same piece of gel) with Daisy and Gamo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ther 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Heavy"/>
              </a:rPr>
              <a:t>Results and Conclusion</a:t>
            </a:r>
            <a:endParaRPr b="0" lang="en-US" sz="5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219320"/>
            <a:ext cx="7925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concluded that the projectile with the larger mass effected a greater area but did not penetrate as deep. I personally would take more surface area over deeper penetration ba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Results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my shooting ability and gun because shooting a pellet with a larger mass automatically increases the size of your kill zone. If I had a more reliable shot it might be an intelligent thought to try a projectile that would penetrate deep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35:06Z</dcterms:created>
  <dc:creator>Sterling Grade School</dc:creator>
  <dc:description/>
  <dc:language>en-US</dc:language>
  <cp:lastModifiedBy>USD376</cp:lastModifiedBy>
  <dcterms:modified xsi:type="dcterms:W3CDTF">2012-03-18T20:37:57Z</dcterms:modified>
  <cp:revision>6</cp:revision>
  <dc:subject/>
  <dc:title>Title</dc:title>
</cp:coreProperties>
</file>